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36D-6411-49BA-900C-557B8D32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444-A94F-4D4C-A207-A27CC4C3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C0C-23E2-42C1-A357-925CFCBB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816-1F7A-4828-B4C8-2B11D1F9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34EF-FCBA-48AB-AF6E-81EE6DE5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B632-D275-45D1-875A-084CCAA3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FCFC-9E88-4279-8FEE-1812B14C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0210-67B9-4545-BAB9-569D75EB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F1CF-09FB-4E2F-967B-1BB95FE5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760F-B763-4D8C-8607-762499ED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EB59-726D-4A4B-A21C-B98D0398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ACF-674D-42F0-82F6-4F375E26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4DD1-ED78-45BB-B175-981F69B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E71-566C-4ABE-8A80-ACC78485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FA1A-C4A8-4884-BEE0-8623BDDE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B8A4-AE01-4689-A430-A1E4F8E6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AED4-CD1A-434F-83EC-95D4E4B3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1BE-744C-485E-B79D-B8350F73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C36-90FF-400A-BBE5-F2BD7F88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CC2-5BDC-4E23-91BE-A466FCD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B47-DD14-4770-9285-24EAA6AF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561-2F6E-4C44-A3CC-385C1E0E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21C-9E78-4B6C-BD3A-A9D1FBC0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733-4C62-4084-B423-66CC2C5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FAFA-B72F-40C2-B723-35BBE523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E918-1E2C-4A3E-A36C-2966EDAB09C5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791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te Fac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2600" y="2017800"/>
          <a:ext cx="7772400" cy="4567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f State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 Physical 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ography &amp; Clim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, Square miles, geographic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(general weather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hief Products and Natural Resourc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2133720"/>
          <a:ext cx="61675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61675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laces of intere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and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 of historical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 Peo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ist (name, birth/death year, why they are famou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 &amp; Fun Fac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nd/or trivia people should know (This information should not have already been mentioned in previous slid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y Visit/Live in My St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de the reader to visit or live in your state (essay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ibliography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54:54Z</dcterms:created>
  <dc:creator>Lupin Hill</dc:creator>
  <dc:description/>
  <dc:language>en-US</dc:language>
  <cp:lastModifiedBy>Lupin Hill</cp:lastModifiedBy>
  <dcterms:modified xsi:type="dcterms:W3CDTF">2010-11-10T16:55:05Z</dcterms:modified>
  <cp:revision>1</cp:revision>
  <dc:subject/>
  <dc:title>State</dc:title>
</cp:coreProperties>
</file>